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940-F758-4177-A960-1A26937C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E33-0035-440C-8DD0-0D3E4C37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A55-6B79-4CCE-8DBA-1C1D4B9C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9DE-537D-4368-AF78-030BE4E4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1D4-C629-46A8-AE2C-C44BFC8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E56-A0F1-4832-8D4E-1DCBE8F2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1C3-4946-439A-9DB7-7A7B090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55B-5010-4DE5-A24D-41AE8D23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DE5-10F1-457A-AC1D-C78D8F8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86B-E76E-4151-9BE4-D3D2072D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191-940F-4853-9411-B3A84B6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856-8A2B-465E-BCDB-2D8EF96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F1EE-FC06-499B-B47B-BB229B7C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4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19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Miras la copa mundial de fu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opa mund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4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50496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990360" y="2590920"/>
            <a:ext cx="114300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1981080"/>
            <a:ext cx="0" cy="289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52320" y="19810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352320" y="487692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8672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657600" cy="270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6172200" y="1904760"/>
            <a:ext cx="990720" cy="609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790960" y="365760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3657600"/>
            <a:ext cx="53316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47080" y="2246400"/>
            <a:ext cx="54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" y="266688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5520" y="2057400"/>
            <a:ext cx="176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6278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 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39880" y="1371600"/>
            <a:ext cx="18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mús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600" y="3962520"/>
            <a:ext cx="16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tend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560" y="396252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558720"/>
            <a:ext cx="6629400" cy="5308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16200000">
            <a:off x="6188760" y="4326480"/>
            <a:ext cx="1981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310760" y="2727000"/>
            <a:ext cx="54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575360" y="3328560"/>
            <a:ext cx="1447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514600"/>
            <a:ext cx="1219320" cy="2209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2666880"/>
            <a:ext cx="259092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2590920"/>
            <a:ext cx="236232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572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s pul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4495680"/>
            <a:ext cx="185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coraz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sonajes latinos famos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e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5 (3 sentences per player in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anato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6-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37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38292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6:01:58Z</dcterms:created>
  <dc:creator>Helen Zumaeta</dc:creator>
  <dc:description/>
  <dc:language>en-US</dc:language>
  <cp:lastModifiedBy>Helen Zumaeta</cp:lastModifiedBy>
  <dcterms:modified xsi:type="dcterms:W3CDTF">2012-10-24T13:13:45Z</dcterms:modified>
  <cp:revision>4</cp:revision>
  <dc:subject/>
  <dc:title>Me llamo ________ Clase 6nh/il La fecha es el 20 de junio del 2011</dc:title>
</cp:coreProperties>
</file>